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8929-4C4D-4577-8698-79FDAA2C5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A172-0D21-4641-9D7F-625FFC23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3450-F2A9-400D-92DA-A1E8D8FB3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CBCC-239E-435A-B913-7D73A3CD4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9FC1-5CFA-4D7E-8C4D-9A1990C1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80EB-6EA2-4B20-B6ED-6DE589D6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69B0-1E68-403E-834B-CE37132A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56C3-EEAA-47EC-B032-422A3175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2603-AFD2-4E27-A579-0F643E0C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A248-F821-46ED-A6D3-E38B9EDF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44FC-EC6E-400A-923F-AF6C4AB3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86E1-2BD5-4EEA-9D5A-1C8ADF2F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75FE-0422-4D9A-B3DA-AE329853225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28800" y="3581280"/>
            <a:ext cx="1838160" cy="1752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19720" y="34099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3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</a:rPr>
              <a:t>الانجليزية البريطانية و الانجليزية الأمريك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685800"/>
            <a:ext cx="449568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- Different Wo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685800"/>
            <a:ext cx="32763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كلمات مختلف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819520"/>
            <a:ext cx="449568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- Different Spel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4120" y="2819520"/>
            <a:ext cx="32763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حروف مختلف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876920"/>
            <a:ext cx="449568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-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re Abbrevi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4120" y="4876920"/>
            <a:ext cx="32763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اختصارات اخر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28800" y="1771560"/>
            <a:ext cx="1838160" cy="1752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419720" y="160020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3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00200" y="3885840"/>
            <a:ext cx="6019920" cy="25146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Times New Roman"/>
              </a:rPr>
              <a:t>الـتـمـاريـ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33530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chequ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chi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 lif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 ty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. ti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. lor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7. trouser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. fl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9. program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0. colo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4191120"/>
            <a:ext cx="7772400" cy="23619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tel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T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 N.B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 e.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. 10th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. O.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9:26:55Z</dcterms:created>
  <dc:creator>Bafayad</dc:creator>
  <dc:description/>
  <dc:language>en-US</dc:language>
  <cp:lastModifiedBy>معمل الانجليزي</cp:lastModifiedBy>
  <dcterms:modified xsi:type="dcterms:W3CDTF">2005-03-27T08:49:45Z</dcterms:modified>
  <cp:revision>7</cp:revision>
  <dc:subject/>
  <dc:title>عرض تقديمي من PowerPoint</dc:title>
</cp:coreProperties>
</file>